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D339-B79A-4482-9CD1-706A726EC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DED4-2094-439E-BC9E-05CC45C6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26AD-6155-46AC-B653-09108214F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6EA9-39F6-4570-ADD7-68F9F2EFE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3DD2-FB32-4288-B444-CA0D17556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CFA4-06F1-4FD2-8D61-2136F296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A8A6-38DD-4470-AEBC-BCA6D9E1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9708A-DC44-4206-8845-EBFC0D55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26F2-19F5-4C2A-94FB-59CC9E4F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F2FC-264D-4DEC-9EC7-C8BA2229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9925-A9C5-436C-9E04-3986B1F3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44C3-192E-41D3-B6B1-31FFB44E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AC03B-69D8-4BD8-81E8-F832A5A7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0E2A-8D09-4A52-AF01-156C141A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D7A8-E048-453C-A31C-D5F6B2B8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D6CD-ED6C-4DF6-9CEA-647D5E6DB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D90B-ADBE-4F8C-B369-89455AEDB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3C6E-4B78-4C25-809D-9EA5D406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23FA-0F20-4108-A28D-F121155D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D95B-A29A-4069-92BD-422A00DA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087C-E20E-44EF-B510-73479E26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CE43-A59A-4A27-A301-1639FDD8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F7D3-DA6A-4EFF-B02E-833029E3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9D65-B5AC-42DD-B1C8-469383B1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71C2-2DC7-4CC8-95F9-DCE247AD7EA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E912-8D5E-4F31-8FED-A2C1BFA3DC3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066320" y="914040"/>
            <a:ext cx="7696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Arial"/>
                <a:ea typeface="標楷體"/>
              </a:rPr>
              <a:t>第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標楷體"/>
              </a:rPr>
              <a:t>44</a:t>
            </a:r>
            <a:r>
              <a:rPr b="1" lang="zh-TW" sz="4000" spc="-1" strike="noStrike">
                <a:solidFill>
                  <a:srgbClr val="ffff00"/>
                </a:solidFill>
                <a:latin typeface="Arial"/>
                <a:ea typeface="標楷體"/>
              </a:rPr>
              <a:t>週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標楷體"/>
              </a:rPr>
              <a:t>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標楷體"/>
              </a:rPr>
              <a:t>11/03/2013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Arial"/>
                <a:ea typeface="標楷體"/>
              </a:rPr>
              <a:t>紐約聖教</a:t>
            </a:r>
            <a:r>
              <a:rPr b="1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會主日崇拜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講題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《</a:t>
            </a:r>
            <a:r>
              <a:rPr b="1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好牧人與知心羊</a:t>
            </a:r>
            <a:r>
              <a:rPr b="1" lang="en-US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ffff"/>
                </a:solidFill>
                <a:latin typeface="Times New Roman"/>
                <a:ea typeface="標楷體"/>
              </a:rPr>
              <a:t> </a:t>
            </a:r>
            <a:r>
              <a:rPr b="1" lang="zh-TW" sz="4000" spc="-1" strike="noStrike">
                <a:solidFill>
                  <a:srgbClr val="ffffff"/>
                </a:solidFill>
                <a:latin typeface="Times New Roman"/>
                <a:ea typeface="標楷體"/>
              </a:rPr>
              <a:t>經文：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約翰福音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0:7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7-10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，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4-18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講員</a:t>
            </a:r>
            <a:r>
              <a:rPr b="1" lang="en-US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: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尤陽生牧師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066320" y="456840"/>
            <a:ext cx="80773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大綱：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一、牧人</a:t>
            </a:r>
            <a:r>
              <a:rPr b="1" lang="zh-TW" sz="44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  </a:t>
            </a:r>
            <a:r>
              <a:rPr b="1" lang="zh-TW" sz="44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 </a:t>
            </a: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，父的</a:t>
            </a:r>
            <a:r>
              <a:rPr b="1" lang="zh-TW" sz="44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 </a:t>
            </a:r>
            <a:r>
              <a:rPr b="1" lang="zh-TW" sz="44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 </a:t>
            </a: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；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    </a:t>
            </a: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牧人</a:t>
            </a:r>
            <a:r>
              <a:rPr b="1" lang="en-US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_____</a:t>
            </a: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，父的 </a:t>
            </a:r>
            <a:r>
              <a:rPr b="1" lang="en-US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_____</a:t>
            </a: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。</a:t>
            </a:r>
            <a:r>
              <a:rPr b="1" lang="zh-TW" sz="44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一、牧人</a:t>
            </a:r>
            <a:r>
              <a:rPr b="1" lang="zh-TW" sz="4400" spc="-1" strike="noStrike" u="sng">
                <a:solidFill>
                  <a:srgbClr val="ffff00"/>
                </a:solidFill>
                <a:uFillTx/>
                <a:latin typeface="標楷體"/>
                <a:ea typeface="標楷體"/>
              </a:rPr>
              <a:t>心</a:t>
            </a:r>
            <a:r>
              <a:rPr b="1" lang="zh-TW" sz="44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 </a:t>
            </a: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，父的</a:t>
            </a:r>
            <a:r>
              <a:rPr b="1" lang="zh-TW" sz="44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 </a:t>
            </a:r>
            <a:r>
              <a:rPr b="1" lang="zh-TW" sz="4400" spc="-1" strike="noStrike" u="sng">
                <a:solidFill>
                  <a:srgbClr val="ffff00"/>
                </a:solidFill>
                <a:uFillTx/>
                <a:latin typeface="標楷體"/>
                <a:ea typeface="標楷體"/>
              </a:rPr>
              <a:t>心 </a:t>
            </a: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；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    </a:t>
            </a: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牧人</a:t>
            </a:r>
            <a:r>
              <a:rPr b="1" lang="zh-TW" sz="4400" spc="-1" strike="noStrike" u="sng">
                <a:solidFill>
                  <a:srgbClr val="ffff00"/>
                </a:solidFill>
                <a:uFillTx/>
                <a:latin typeface="標楷體"/>
                <a:ea typeface="標楷體"/>
              </a:rPr>
              <a:t>愛</a:t>
            </a:r>
            <a:r>
              <a:rPr b="1" lang="zh-TW" sz="44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 </a:t>
            </a: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，父的</a:t>
            </a:r>
            <a:r>
              <a:rPr b="1" lang="zh-TW" sz="44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 </a:t>
            </a:r>
            <a:r>
              <a:rPr b="1" lang="zh-TW" sz="4400" spc="-1" strike="noStrike" u="sng">
                <a:solidFill>
                  <a:srgbClr val="ffff00"/>
                </a:solidFill>
                <a:uFillTx/>
                <a:latin typeface="標楷體"/>
                <a:ea typeface="標楷體"/>
              </a:rPr>
              <a:t>愛</a:t>
            </a:r>
            <a:r>
              <a:rPr b="1" lang="zh-TW" sz="44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 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066320" y="456840"/>
            <a:ext cx="80773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大綱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二、子</a:t>
            </a:r>
            <a:r>
              <a:rPr b="1" lang="zh-TW" sz="4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   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父，子</a:t>
            </a:r>
            <a:r>
              <a:rPr b="1" lang="zh-TW" sz="4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   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父；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  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    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羊，</a:t>
            </a:r>
            <a:r>
              <a:rPr b="1" lang="zh-TW" sz="4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   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牧人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二、子</a:t>
            </a:r>
            <a:r>
              <a:rPr b="1" lang="zh-TW" sz="4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 </a:t>
            </a:r>
            <a:r>
              <a:rPr b="1" lang="zh-TW" sz="4000" spc="-1" strike="noStrike" u="sng">
                <a:solidFill>
                  <a:srgbClr val="ffff00"/>
                </a:solidFill>
                <a:uFillTx/>
                <a:latin typeface="標楷體"/>
                <a:ea typeface="標楷體"/>
              </a:rPr>
              <a:t>順</a:t>
            </a:r>
            <a:r>
              <a:rPr b="1" lang="zh-TW" sz="4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 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父，子</a:t>
            </a:r>
            <a:r>
              <a:rPr b="1" lang="zh-TW" sz="4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 </a:t>
            </a:r>
            <a:r>
              <a:rPr b="1" lang="zh-TW" sz="4000" spc="-1" strike="noStrike" u="sng">
                <a:solidFill>
                  <a:srgbClr val="ffff00"/>
                </a:solidFill>
                <a:uFillTx/>
                <a:latin typeface="標楷體"/>
                <a:ea typeface="標楷體"/>
              </a:rPr>
              <a:t>靠</a:t>
            </a:r>
            <a:r>
              <a:rPr b="1" lang="zh-TW" sz="4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 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父；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      </a:t>
            </a:r>
            <a:r>
              <a:rPr b="1" lang="zh-TW" sz="4000" spc="-1" strike="noStrike" u="sng">
                <a:solidFill>
                  <a:srgbClr val="ffff00"/>
                </a:solidFill>
                <a:uFillTx/>
                <a:latin typeface="標楷體"/>
                <a:ea typeface="標楷體"/>
              </a:rPr>
              <a:t>知心 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羊，</a:t>
            </a:r>
            <a:r>
              <a:rPr b="1" lang="zh-TW" sz="4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 </a:t>
            </a:r>
            <a:r>
              <a:rPr b="1" lang="zh-TW" sz="4000" spc="-1" strike="noStrike" u="sng">
                <a:solidFill>
                  <a:srgbClr val="ffff00"/>
                </a:solidFill>
                <a:uFillTx/>
                <a:latin typeface="標楷體"/>
                <a:ea typeface="標楷體"/>
              </a:rPr>
              <a:t>跟</a:t>
            </a:r>
            <a:r>
              <a:rPr b="1" lang="zh-TW" sz="4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 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牧人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04:27:49Z</dcterms:created>
  <dc:creator>User</dc:creator>
  <dc:description/>
  <dc:language>en-US</dc:language>
  <cp:lastModifiedBy>Hommie Yu</cp:lastModifiedBy>
  <dcterms:modified xsi:type="dcterms:W3CDTF">2013-11-02T12:54:26Z</dcterms:modified>
  <cp:revision>147</cp:revision>
  <dc:subject/>
  <dc:title>經文:馬 太27:35A</dc:title>
</cp:coreProperties>
</file>