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FF-C2D8-4BC5-91F1-C0AB8346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B00-AA22-4738-A855-0D18E2FB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804-113F-44BD-B76E-BDAEF180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EA-CB75-4801-BE7A-72262BAB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0C8C-435B-4DE9-A7E8-54ED61A7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F15-3BD0-4904-B329-C2499BA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DADF-B4AC-42D5-A3AD-876439F3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EC47-BA4B-427F-A913-F47E1ED5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9648-AD46-4DC2-891D-DED6985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C15B-4944-4750-9C14-D8C8E26C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E918-AAA3-49A4-92B5-B252B5D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B8B-61CD-40B3-B18C-C79AE335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31DB-6DF0-432F-9702-039539A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EF38-8A37-40B1-850B-8E33879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2D01-52AA-48F8-BB5B-8C14E3B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3423-90F0-4A36-ADAB-52CD39A4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D43-5601-4AFF-BE6F-9BEEF892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D4A-B1A4-45A4-B74B-37F08BEF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B04-6E09-475E-9792-60193D0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3DA-C336-44B2-802F-1B41213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D1E-86BE-4431-BB73-CA01DDC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FCA-5A60-48E8-BF4E-BE076B6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611-C075-414B-94EC-04C20A4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507-8CF8-440C-BC7E-F300C8F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AF6-4B6F-42F5-B312-B249AA33C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21C2-11A8-4FC0-87B7-563FD60063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eaeaea"/>
                </a:solidFill>
                <a:uFillTx/>
                <a:latin typeface="KaiTi"/>
                <a:ea typeface="KaiTi"/>
              </a:rPr>
              <a:t>頌榮</a:t>
            </a:r>
            <a:r>
              <a:rPr b="1" lang="en-US" sz="4000" spc="-1" strike="noStrike" u="sng">
                <a:solidFill>
                  <a:srgbClr val="eaeaea"/>
                </a:solidFill>
                <a:uFillTx/>
                <a:latin typeface="KaiTi"/>
                <a:ea typeface="KaiTi"/>
              </a:rPr>
              <a:t>-</a:t>
            </a:r>
            <a:r>
              <a:rPr b="1" lang="zh-TW" sz="4000" spc="-1" strike="noStrike" u="sng">
                <a:solidFill>
                  <a:srgbClr val="eaeaea"/>
                </a:solidFill>
                <a:uFillTx/>
                <a:latin typeface="KaiTi"/>
                <a:ea typeface="KaiTi"/>
              </a:rPr>
              <a:t>普天之下萬國眾生</a:t>
            </a:r>
            <a:r>
              <a:rPr b="1" lang="zh-TW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zh-TW" sz="2000" spc="-1" strike="noStrike">
                <a:solidFill>
                  <a:srgbClr val="eaeaea"/>
                </a:solidFill>
                <a:latin typeface="Tahoma"/>
              </a:rPr>
              <a:t>聖歌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#29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KaiTi"/>
                <a:ea typeface="KaiTi"/>
              </a:rPr>
              <a:t>普天之下萬國眾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KaiTi"/>
                <a:ea typeface="KaiTi"/>
              </a:rPr>
              <a:t>讚美聖父聖子聖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KaiTi"/>
                <a:ea typeface="KaiTi"/>
              </a:rPr>
              <a:t>三位一體同榮同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KaiTi"/>
                <a:ea typeface="KaiTi"/>
              </a:rPr>
              <a:t>萬有主宰萬福本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1:22:13Z</dcterms:created>
  <dc:creator>User</dc:creator>
  <dc:description/>
  <dc:language>en-US</dc:language>
  <cp:lastModifiedBy>Hommie Yu</cp:lastModifiedBy>
  <dcterms:modified xsi:type="dcterms:W3CDTF">2013-11-02T04:56:43Z</dcterms:modified>
  <cp:revision>16</cp:revision>
  <dc:subject/>
  <dc:title>主的妙愛--詩集：天人聖歌，3</dc:title>
</cp:coreProperties>
</file>