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0DA4-53C7-4400-903A-76996B60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B470-742E-43D0-AF86-7AE2E9FE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BD12-CA2C-46B2-B0E4-5C103A4C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732E-2F00-4084-B34B-BA401DA8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ED6-4094-4D37-BFC6-5F10788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6AAB-924C-41A8-9982-45D256D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1FC-CA9F-4B49-AC94-A2C404B2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4418-4EF9-48FB-B6F6-5E83E1C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92F0-AA3D-437C-95A1-4F68EC0C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A8C-E33A-4B8B-BA89-BFA88855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2C85-7747-4D0B-97F0-F0DA075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99FE-A35F-42E8-8237-9F9D252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0AA-7982-4F8D-94E1-FFB4FB2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A782-D90C-48D8-8FCF-1617A2C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37BE-E95A-41D3-A1FE-F34B9BB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B2B-72A2-40BD-BE16-3E3EBB32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A3F-0251-4969-946B-E58018F4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97E8-481E-4D11-B49F-9A98DDDE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29C0-6306-40B8-974A-C7806F3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6961-3841-4153-840C-F64BDEDD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3F14-B04F-4F0A-8433-F500DBB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9780-10C8-470D-9767-CF958D0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069A-F15E-4E44-AE10-353AA6F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8830-47B3-460A-81BA-37EF898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6DF-DEAC-4E5A-9F57-14C55263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3BC-6760-43B1-BB28-153FDFBC3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罪債全還清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-</a:t>
            </a:r>
            <a:r>
              <a:rPr b="0" lang="zh-TW" sz="2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世紀頌讚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#2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１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我聽救主說道：你力量實微小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應當儆醒祈禱，因我為你中保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替我捨身，罪債都還清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無數罪孽污穢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洗我白如雪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罪債全還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2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我今確實知道，惟主權能浩大，　 </a:t>
            </a:r>
            <a:br>
              <a:rPr sz="4000"/>
            </a:b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痳瘋可以潔淨，鐵石心腸軟化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替我捨身，罪債都還清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無數罪孽污穢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洗我白如雪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罪債全還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3)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我無嘉言善行，藉此可得救恩，  </a:t>
            </a:r>
            <a:br>
              <a:rPr sz="4000"/>
            </a:b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唯主所流寶血，能洗一切罪痕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替我捨身，罪債都還清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無數罪孽污穢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洗我白如雪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罪債全還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4)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將來我立主前，靠主聖潔、完全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主死我乃得生，我口常永頌讚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替我捨身，罪債都還清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無數罪孽污穢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祂洗我白如雪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02:19:56Z</dcterms:created>
  <dc:creator>User</dc:creator>
  <dc:description/>
  <dc:language>en-US</dc:language>
  <cp:lastModifiedBy>Hommie Yu</cp:lastModifiedBy>
  <dcterms:modified xsi:type="dcterms:W3CDTF">2013-11-02T04:57:39Z</dcterms:modified>
  <cp:revision>39</cp:revision>
  <dc:subject/>
  <dc:title>Slide 1</dc:title>
</cp:coreProperties>
</file>